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1D15-B28F-4A7A-9B15-7C7712F8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49B6-D2A9-4153-B2D5-680D4244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30C-4248-4713-941F-34230A54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3971-DC76-44D2-8CAF-041C7D6E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3555-CC65-470A-A12A-6B7888FA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981A-BBE4-4C2B-A73F-BF3482AC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337-5075-4CFA-9ED9-57BE54EF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BE0-088F-43AD-A6AA-8501FBD1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9DFC-3B50-42C2-BF92-04EE5C44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0EF9-A116-411D-ABF1-AA71A79D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F4C-53EC-4F96-9591-8B5C0AA4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E558-C5B2-401E-9619-8DD54BE0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AC3-C844-4623-A788-89F3E9421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D9DE-E033-4A7D-B834-C5F2E022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396-71F6-4B03-A127-47349F2E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B45-5077-4F33-9639-7319CE47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8523-DB69-41C0-8E9E-2901499E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8B2F-3F1A-465C-9DB1-39F06A71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22D-56A0-4D3D-A9AE-78FAF82C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Child (under 7) are held incapable of negligent con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Child (7-14) required to act with the care that a reasonable child of like age, intelligence &amp; experience would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hild has taken on an adult like activity such as driving – the child would be held to the adult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Professional: held to higher standard in thei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54C-E7A6-4247-BE13-384F4ABB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B29-47E6-4512-B759-C98204C0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0C0B-1124-41B2-B4A5-DC9F302A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Common Law – Contribu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ve happened in Yee &amp; Britt’s c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substitution  - Compa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C35-7394-4409-855C-BF2A27D5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st of wind blows a section of plywood off the top floor and hits you in the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seriously inj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the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408-C04F-4F81-BBC3-F22356EE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E1F2-4419-4F4F-B1A9-F97147A4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strict liability the victim might not receive any compensation because negligence may be too difficult to pr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Lamm could collect from either the store, the bottler, or both.  The bottle was defective (bottler) and it made the product unreasonably dangerous (sto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3EC8-4261-4363-8A2A-743C32FC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Doctrine (policy/guideline) – Your act caused injury regardless of precautions taken or lack of neg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6AE-A2FD-4D85-9682-1D4F3593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Duty is Usually #2 on our list of elemen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 of the activity and the injury substitutes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ctions are so hazardous that they need to b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3B4E-7908-403C-9E1D-CA71226F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CB5-CE3A-4A0F-B75F-4407A342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strict liability the victim might not receive any compensation because negligence may be too difficult to pr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Lamm could collect from either the store, the bottler, or both.  The bottle was defective (bottler) and it made the product unreasonably dangerous (sto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86D-6420-46A8-8F4E-2438897E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ault, Battery, False Imprisonment, Defamation (Slander-Spoken, Libel-Printed), Invasion of Privacy, Trespass to Land, Conversion, Interference with Contractual Relations, and Fra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y of Care, Breach of Duty, Causation, &amp;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Doctrine that imposes liability merely upon an act and a resultant injury regardless of precautions taken  or lack of negli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602-A234-493A-89EB-41CD2541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C63-A152-4D0B-B854-F637DFAE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82F-C64F-44CE-9CAB-DDD7205F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6DBD-44AE-4895-84AF-011D6997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D028-C393-4EF6-9F32-222907E9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8EEE-985B-428E-B1B9-14C9D26C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EBC0-2E7E-4A59-B27E-B6F892A3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B7B-7569-4BEB-A8C8-6E5D2EE0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7BD-D7A0-4B37-8413-78E9ECCC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B8F-5C3D-4CBA-83F3-BA08958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CC6-16AA-42DA-BBE8-B7FF29F7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0A0-5218-4300-ABE4-0BE679F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5E1-A3BB-41EF-B695-C54F875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9D3-C732-4C96-ACC2-37ECA9EC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A61-2FFB-4435-B3BA-13831EBE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54A-5109-4997-8D1A-7BB45E8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92E-8241-46B1-A6DB-ACCF5C3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4E9-CE1C-4106-A344-088B058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0B2-53BE-48F2-9222-3297163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B5A-685A-4397-8B03-26020D8B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CZIQh4tH_RMvM&amp;tbnid=iINleUDkOPWU6M:&amp;ved=0CAUQjRw&amp;url=http%3A%2F%2Fwww.123rf.com%2Fphoto_11698806_an-angry-businessman-shakes-his-fist-out-of-frustration.html&amp;ei=KLqcUujJLcipsQT68ICQBA&amp;bvm=bv.57155469,d.cWc&amp;psig=AFQjCNHvx0zzlsbTJ7bXe7_V2m1LQhPi5g&amp;ust=138608936910255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_Vd8I-YYvVHbPM&amp;tbnid=3aB8SKb8PNM6xM:&amp;ved=0CAUQjRw&amp;url=http%3A%2F%2Fwww.dontewyatt.com%2FCrimes-of-Violence.html&amp;ei=k-ucUpSXIbTHsATNnYDIBQ&amp;bvm=bv.57155469,d.cWc&amp;psig=AFQjCNHEcXalTMl2MA3Kv1Lson0UFofexw&amp;ust=1386102021093356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vTW50ZSrKQ-4QM&amp;tbnid=fWxa6k8lsQbYpM:&amp;ved=0CAUQjRw&amp;url=http%3A%2F%2Fsocietaldelusion.wordpress.com%2Ftag%2Fdefamation%2F&amp;ei=8OqcUoTaLMXlsAT9moKYBw&amp;bvm=bv.57155469,d.cWc&amp;psig=AFQjCNGHBGqyjgg8XH9TiZI1QWgir-0Rkg&amp;ust=1386101842009571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google.com/url?sa=i&amp;source=images&amp;cd=&amp;cad=rja&amp;docid=ZCb6KdD04k6ttM&amp;tbnid=zs4RQHPDBAKpTM:&amp;ved=0CAgQjRwwAA&amp;url=http%3A%2F%2Fdict.space.4goo.net%2Fdict%3Fq%3Dslander&amp;ei=O-ucUt_2JcmpsQTCsoDgCA&amp;psig=AFQjCNEbpCRPTNaMh99Nq4xfEHYB03zGqg&amp;ust=138610194768138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5YIxvy37e6uDbM&amp;tbnid=OBe5NdMs82-gYM:&amp;ved=0CAUQjRw&amp;url=http%3A%2F%2Fthecyberhoodwatch.com%2Fpersonal-identity-protection%2Fmarketing-ivasion-privacy%2F&amp;ei=9OucUp2HKO_hsAT0_YL4Cg&amp;bvm=bv.57155469,d.cWc&amp;psig=AFQjCNH-GMPe5fwRSGO_pqwFZSjG44pHpQ&amp;ust=1386102097586089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5C70-98BA-4439-B71E-54E07557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siness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Law &amp;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34202"/>
          <p:cNvPicPr/>
          <p:nvPr/>
        </p:nvPicPr>
        <p:blipFill>
          <a:blip r:embed="rId1"/>
          <a:stretch/>
        </p:blipFill>
        <p:spPr>
          <a:xfrm>
            <a:off x="7162920" y="457200"/>
            <a:ext cx="154944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j0234202"/>
          <p:cNvPicPr/>
          <p:nvPr/>
        </p:nvPicPr>
        <p:blipFill>
          <a:blip r:embed="rId2"/>
          <a:stretch/>
        </p:blipFill>
        <p:spPr>
          <a:xfrm>
            <a:off x="533520" y="457200"/>
            <a:ext cx="1549440" cy="123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234202"/>
          <p:cNvPicPr/>
          <p:nvPr/>
        </p:nvPicPr>
        <p:blipFill>
          <a:blip r:embed="rId3"/>
          <a:stretch/>
        </p:blipFill>
        <p:spPr>
          <a:xfrm>
            <a:off x="3886200" y="457200"/>
            <a:ext cx="1549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DC3-FB93-4A44-88C4-2ADE4DD4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 crime and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arties might be held responsible for another person’s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2FE-6602-47B1-A1AC-B1EDC23F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ntional Torts, Negligenc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Strict 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mmon intentional t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the elements of neglig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basis for strict Li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46DE-A437-4190-8761-787C5F7FB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Hart committed an intentional tor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lty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sp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ven though he thought he was in a national fores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tended to be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jsundlin1\AppData\Local\Microsoft\Windows\Temporary Internet Files\Content.IE5\2Y1B15XN\MC900199054[1].wmf"/>
          <p:cNvPicPr/>
          <p:nvPr/>
        </p:nvPicPr>
        <p:blipFill>
          <a:blip r:embed="rId1"/>
          <a:stretch/>
        </p:blipFill>
        <p:spPr>
          <a:xfrm>
            <a:off x="6324480" y="152280"/>
            <a:ext cx="2689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3C11-58FF-49F0-A87C-901AC3AC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Intentional To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ional tor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t in which the defendant means to commit the injuriou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3200400"/>
            <a:ext cx="43434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ault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tter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lse Imprisonment</a:t>
            </a:r>
            <a:br>
              <a:rPr sz="28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vasion of Priv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24280" y="3200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spass to Lan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ers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u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ference with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ontractu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01F-EF04-4426-9410-FDFBB009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s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erson intentionally pu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asonable fea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ffensive or harmful bo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ased on words or ges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display present ability to carry out thr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be believ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s://encrypted-tbn1.gstatic.com/images?q=tbn:ANd9GcSuSDJvI1Z9Lk2sLG6yfHk0lcQNRWCNK69zNnpFBfaRiR_0fi1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228600"/>
            <a:ext cx="2352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515B-6947-4D14-9958-853CBB68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ful or offensive touching of someon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oting, Pushing, Spitting, Throwing an Object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ass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ault ~~~ Angrily Raised F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~~~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iking some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ucker punched from behind = no ass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6366-40C0-4DAC-A424-C455986F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confinement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against the person’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nd without lawful privileg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locked in a room, car, jail, told in a threatening way to stay in one pla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nd Merchant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s://encrypted-tbn0.gstatic.com/images?q=tbn:ANd9GcTsajpegGMYgoor_9Nkawsc_6v-eUby0IFp4sxa_ysAjG2fwOAs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2040" y="-6480"/>
            <a:ext cx="2908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C59C-1144-4AD9-A227-D65A297D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statement which injuries a person’s reputation or good na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an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Spoken 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b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Written or Printed Defa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Defamation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mmunicated to a third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victims into disrepute, contempt, or ridicule of others (disgrace, disrespect, or mockery of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s://encrypted-tbn2.gstatic.com/images?q=tbn:ANd9GcQQ-CJVDSHES0ppSRQelKRljvyoXyG1CC5FjesTkYu75vUNtTZS_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480" y="-6480"/>
            <a:ext cx="2603520" cy="1811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t1.gstatic.com/images?q=tbn:ANd9GcRYmGRQs_0sBa6VzeyU9Y-X5b7b3Uz5l_kYujNSs7y8gZplotrq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91360" y="-6480"/>
            <a:ext cx="28591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706-6E96-49C4-A798-D3AFE1F9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asion of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nvited intrusion into an individual’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relationships and activities i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 way likely to cause shame or mental suffering of an ordinary person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wo way mirror, exploiting personal info w/o permission, eavesdropping, opening mail…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of a true statement. Not Defa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can invade with proper, legal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figures give up their “Right to Priv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s://encrypted-tbn1.gstatic.com/images?q=tbn:ANd9GcTN6UckyxQCTYcEoJ_ECb0aC59ZSZf2GZTwUeF3HEq21iqeO3q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45440" y="-6480"/>
            <a:ext cx="1805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82A-119F-4973-88AA-80BEB0A3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sp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respass to La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y onto the property of an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owner’s consen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mping on property or destroying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nt required theref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shed/thrown onto property –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tres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lking along property because they mistakenly think they are on their own land 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s tres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8440" y="-1317600"/>
            <a:ext cx="381024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28440" y="-1317600"/>
            <a:ext cx="381024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http://naturalunseenhazards.files.wordpress.com/2011/03/no-trespass-private-property-sign-k-4693.gif"/>
          <p:cNvPicPr/>
          <p:nvPr/>
        </p:nvPicPr>
        <p:blipFill>
          <a:blip r:embed="rId1"/>
          <a:stretch/>
        </p:blipFill>
        <p:spPr>
          <a:xfrm>
            <a:off x="708660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B1F-E7D1-40B4-BAFA-917141EA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t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rrective action should Chanelle take within the school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rdless of whether or not she tries to resolve the problem within the school’s structure, has Chanelle received a personal injury for which she could bring suit in cou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E29-106F-4A84-A337-0B8BEEDCE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y is stolen, destroyed or used in a manner inconsistent with the owner’s righ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theft is always a conver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ocent buyer of stolen goods is a converter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wner (injured party) can receive dam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ter can be compelled to purchase the converted goods from their own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38F-0F13-4706-B1B7-29CC2E0E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ference with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tractual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third party encourages someone to breach their contract in any way, that third party may be liable in tort to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reaching part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A in contract with Part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C encourages B to breach that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C may be liable to tort damages to Part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251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95C2-3EB5-4169-A13E-3272C196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reckless misrepresentation of an existing, important fa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s when misrepresentation intends to induce someone to enter into a contr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ctim must actually enter into the contract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ments of opinion are not fraudul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931F-2525-49E3-A083-CDAE5EED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8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80880" y="2286000"/>
            <a:ext cx="8610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have to pay damages for the injuries and property damage sustained in the acc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Determin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ome notes and discu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B36-194D-47FA-8471-5299523CB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itutes Neglig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ligence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 COMM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injure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 REQUI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less behavior is enough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Elements of Negli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09F-6556-454A-A678-D0873347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Element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ty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sonable Pers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 with care, prudence (caution) &amp; good judgment so not to cause injury to an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egrees of care – Children, Adul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ch of 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reasonable person” standard defines they duty of care in any specific case and whether they violated this du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B0F8-1BA9-405A-8513-C455455E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Element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injury must b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one is injured, there usually is no tor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ch of duty caused th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ximate Cau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ists when it is reasonably foreseeable that a breach of duty will result i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0C5-136A-451F-8938-4AF71580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80880" y="1219320"/>
            <a:ext cx="84582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oo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have to pay damages for the injuries and property damage sustained in the acc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speeding &amp;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ory Negligence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d not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tively Negligence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fault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B8E-EA8F-4E8B-8795-348806B9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nse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ributory Neg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plaintiff was also negligent in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 the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annot collec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arative Neg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pplies when a plaintiff is partially at 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ed damages i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por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ir percent of responsibility in the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805-5B71-40F6-808C-D86A0BFF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nse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mption of the Ri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f plaintiff was aware of a danger, but decided to subject themselves to the risk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cut across a lot where there is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meter clearly marked with sig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Danger, No Trespassing.  Construction Are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B0F1-CD35-4D15-A925-40740E71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vate Injuries vs. Public Off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between a crime and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elements of t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one person may be responsible for another person’s t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283-DD73-4F4D-B096-BEC19C22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57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he collect in tort from the grocery store or the bott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s. Lamm could collect from either the store, the bottler or both under strict li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le Defective = unreasonably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:\Users\jsundlin1\AppData\Local\Microsoft\Windows\Temporary Internet Files\Content.IE5\D7WX6XPI\MC900112970[1].wmf"/>
          <p:cNvPicPr/>
          <p:nvPr/>
        </p:nvPicPr>
        <p:blipFill>
          <a:blip r:embed="rId1"/>
          <a:stretch/>
        </p:blipFill>
        <p:spPr>
          <a:xfrm>
            <a:off x="5472000" y="0"/>
            <a:ext cx="347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D07-F7E9-4ED5-9F59-51CF3134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ct liabilit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a defendant liable without a showing of negligen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“Doctrine of Strict Li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fendant can be held liable if he/she merely engaged in a particular activity that resulted in injury regardless of whether or not he/she was neg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71A-448F-4E5B-AD8B-3396A8B5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 of both the activity and the injury </a:t>
            </a:r>
            <a:br>
              <a:rPr sz="3200"/>
            </a:b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bstit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proof of violation of a dut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L. - applies when someone has engaged in abnormally dangerous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ing / Demolition /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p Dusting with Dangerous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ing Large Quantities of Flammable Liqu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1E5-3103-4AC1-A04E-8998E1CF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of Dangerous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ated pets that display dangerous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d or Dangerous Animals (bear, tiger, monkey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of Unreasonably Dangerous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ctive goods that caus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merchant that sells them are strictly liabl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nufacturer and Retailers that sell the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995-E59E-48E7-920E-44A04C35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he collect in tort from the grocery store or the bott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hink this is fair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or why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3FD-1FE0-4A84-8072-546EF69F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six of the most common intentional tor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four elements of the tort of negligen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trict li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C7A9-46B1-46B4-B92A-8D126475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legal remedies that are available to a tort vic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rocedure used to try a civil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3BD3-2F23-4FE3-883D-4414FFA1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damages could Horsley collect from Eardly in a laws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5DA9-2BAB-47B7-878B-8AB22016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 – Reme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Remed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jun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 order for a person to do or not do a particular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injury, discontinue it, or undo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tary award by the court to a person who has suffered loss or injury because of the act or omission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769A-5624-4D42-BF31-F7818720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 – Reme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nsatory damages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t to place injured party in the position they were in prior to the injury/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’s Loss, Doctor’s Fees, $ for Pain/Suffe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itive Damages (exemplar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warded in intentional tor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t to punish the person who inflicted th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5E6-CE63-4C3F-A542-149B0B06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Jerone’s conduct represent a criminal wrong, a civil wrong,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ne committed two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counts of manslaugh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disclose medication use and blood pressure status at tim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ne also committed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ligent conduct in piloting the ferry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jsundlin1\AppData\Local\Microsoft\Windows\Temporary Internet Files\Content.IE5\2Y1B15XN\MC90025201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3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7FAB-E790-4293-B232-7E0FA56E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bout The Law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gency Fee Ba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yers at times handle civil lawsuits for a percent of the recover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mon percent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if the case is settled before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% if the case is won at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+ if the case is won at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6131-96BB-482E-BA90-A6B2C680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the court determine what re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5BB-A227-4DD3-9204-6414A419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or Ju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ening Statements and Testimon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ing Argument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structions to the Ju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Deliberation and the Verdi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4AFC-0196-4E86-A893-8398669D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or J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– decides issues of  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– decides issues of      FAC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ivil Ju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consists of 6-12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en to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 physic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ch a dec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E9C-4494-4B03-9645-F0966646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ing Statements &amp; Testi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7200" y="1676520"/>
            <a:ext cx="8458200" cy="4848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Statements – briefly outline what the plaintiff and defendant will try to pro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– includes anything that the judge allows to be presented to the jury that helps prove/disprove the alleged facts (testimony, documents, photo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mony – statements made by a witness under oa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ness – someone who has personal knowledge of fact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poena – written order by the judge commanding a person to appear, give testi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450-C2BD-44D8-BE3C-4CD849034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osing Arguments/Ju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the presentation of the evidence each attorney gives a closing argu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ize case, persuade the judge and jury to favor their side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then gives instructions to the jury including laws that apply to case and facts they must make a decide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F716-F57A-4CEF-B243-6EE96799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ry Deliberation &amp; Verd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Delibe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whether preponderance (superior weight) of evidence supports the plaintiff’s cas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dict – Jury’s Decis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renders a Judgment: final result o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2197-BFDA-4853-8AAA-F135A6E9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teps could Stevens take to collect the jud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C5D-E4BD-4954-B27C-C8D13AD9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I get my Money??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llecting Da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a Civil Judgment for Plaintiff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fendant would pay the damag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y don’t pa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tain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rit of execu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order that the defendant’s property is seize or sold. Proceeds are then used to pay the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FB02-DE06-441D-B15B-C6A83DC1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two remedies available in a civil cou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steps in the procedure used to try a civil cas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a plaintiff collect damages if the defendant refuses to p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7DD0-24EE-4436-9DDC-36AEDE75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Crimes and Tort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Again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e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rt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civil wrong for which the law grants a re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e for Dam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am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tary award to compensate for the loss caused by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awarded is meant to try and restrain injured party from retaliation/reve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D45-6081-4460-905F-07334A03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alyze Re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– Reads case to group &amp;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– Summarizes main poi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ecutor – Provide proof of guil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 – Defends the cl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 – Determines the outcome of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A6B-8DE0-4C2B-AA48-CC2E8814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 Mason commit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on Committed a tor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owed a duty to the neighbors not to injure their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reached the duty when he left the fire unattended – spreading to neighbors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jury occurred when the neighbor’s house was b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the fire unattended was proximate cause of the loss of the f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s://encrypted-tbn3.gstatic.com/images?q=tbn:ANd9GcRA5mpBrVlEJBYA30k146PldjgCtB_UFvP_2AeQqG9Bf4YhwxfP"/>
          <p:cNvPicPr/>
          <p:nvPr/>
        </p:nvPicPr>
        <p:blipFill>
          <a:blip r:embed="rId1"/>
          <a:stretch/>
        </p:blipFill>
        <p:spPr>
          <a:xfrm>
            <a:off x="6019920" y="2286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B3D8-29D6-46C0-A6DB-29092401C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ments of a Tort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82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must be proven in Cour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ty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legal obligation to do/not do someth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c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violation of du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ju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a harm that is recognized by l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tio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roof that breach caused inju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30F-48C1-4C9C-A4A7-9D8A297F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olation of Duty / 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glig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tort based on careless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s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ch of duty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au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jury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ximate Cau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amt of causation is great enough for it to be recognized by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699-9160-4B6A-92BE-CB2BB562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person is liable for the torts of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be liable if they give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dangerous instrumentalities” such as a gun without proper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may be liable for their children’s continuing dangerous habit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Throwing stones at people or vehicles, Parents liable if they fail to stop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9:16Z</dcterms:created>
  <dc:creator>Jessica Spangenberg</dc:creator>
  <dc:description/>
  <dc:language>en-US</dc:language>
  <cp:lastModifiedBy>tmsadmin</cp:lastModifiedBy>
  <dcterms:modified xsi:type="dcterms:W3CDTF">2013-12-02T20:36:35Z</dcterms:modified>
  <cp:revision>89</cp:revision>
  <dc:subject/>
  <dc:title>Business Law</dc:title>
</cp:coreProperties>
</file>